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549C-CADC-4B24-9FF5-CEDA28B54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9360-3FC4-4518-B5E1-218956280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6DAF-510A-42B1-88CD-3A296B1AD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FDB3-3A21-4264-8315-02CE0DA3D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958C-F694-4E12-912E-7269F7C86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21CA-E6A3-40B7-AD04-2C1003861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9437-A134-48DC-95D5-029AE13F5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ED5A-390A-4E03-AE1B-D1F6922C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EE82-E30B-413C-BE8A-3A3C49A2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3826-4136-43C8-923E-F117FA57B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06CB-3390-499E-B5EA-E4FD7E18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4D5C-15AC-4C2A-8C24-866C0177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7527-D0E9-4D73-A4D3-601226C0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74CE-E685-47A1-A75D-02B97B68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E3D1-AADB-4898-887C-0A87870F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FF2E-C3C1-4EBD-A4ED-06960EA9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ED73-D326-4C2A-B757-331F2156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A3C8-16FD-4096-8BEC-D502E191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32F3-634A-4094-9269-B3686C92A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2/UAE_locator_map.sv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0" y="609480"/>
            <a:ext cx="3657600" cy="366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11-9 &amp; 10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be Saudi Arabia’s terr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udi Arabia is located in what region of the wor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 3 nations that border Saudi Arabia AND the Persian Gu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380880" y="14479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sert; few 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457200" y="2286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iddle E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 11-9 &amp; 10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Mid.East Map Test on Frid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http://www.pbs.org/wgbh/amex/bush41/program/images/watch_more_lg.jpg"/>
          <p:cNvPicPr/>
          <p:nvPr/>
        </p:nvPicPr>
        <p:blipFill>
          <a:blip r:embed="rId1"/>
          <a:stretch/>
        </p:blipFill>
        <p:spPr>
          <a:xfrm>
            <a:off x="228600" y="4294080"/>
            <a:ext cx="3174840" cy="2563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://media.maps.com/magellan/Images/saudiarabiarah.gif"/>
          <p:cNvPicPr/>
          <p:nvPr/>
        </p:nvPicPr>
        <p:blipFill>
          <a:blip r:embed="rId2"/>
          <a:srcRect l="2281" t="0" r="0" b="0"/>
          <a:stretch/>
        </p:blipFill>
        <p:spPr>
          <a:xfrm>
            <a:off x="3654360" y="380880"/>
            <a:ext cx="5489640" cy="4648320"/>
          </a:xfrm>
          <a:prstGeom prst="rect">
            <a:avLst/>
          </a:prstGeom>
          <a:ln w="0">
            <a:noFill/>
          </a:ln>
        </p:spPr>
      </p:pic>
      <p:sp>
        <p:nvSpPr>
          <p:cNvPr id="54" name="TextBox 11"/>
          <p:cNvSpPr/>
          <p:nvPr/>
        </p:nvSpPr>
        <p:spPr>
          <a:xfrm>
            <a:off x="228600" y="34290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atar, U.A.E. Bahrain, Kuwait, Iraq, or O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2"/>
          <p:cNvSpPr/>
          <p:nvPr/>
        </p:nvSpPr>
        <p:spPr>
          <a:xfrm>
            <a:off x="5416560" y="3367080"/>
            <a:ext cx="96840" cy="8244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5451480" y="3276720"/>
            <a:ext cx="76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cc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2" descr="http://cache.virtualtourist.com/3088902-Travel_Picture-Mecca.jpg"/>
          <p:cNvPicPr/>
          <p:nvPr/>
        </p:nvPicPr>
        <p:blipFill>
          <a:blip r:embed="rId3"/>
          <a:srcRect l="0" t="8799" r="0" b="7999"/>
          <a:stretch/>
        </p:blipFill>
        <p:spPr>
          <a:xfrm>
            <a:off x="3633840" y="5029200"/>
            <a:ext cx="2462040" cy="1828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http://www.rr-middleeast.oie.int/images/MeccaSaudiArabia.JPG"/>
          <p:cNvPicPr/>
          <p:nvPr/>
        </p:nvPicPr>
        <p:blipFill>
          <a:blip r:embed="rId4"/>
          <a:stretch/>
        </p:blipFill>
        <p:spPr>
          <a:xfrm>
            <a:off x="6066000" y="5029200"/>
            <a:ext cx="3078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3414018_7_3"/>
          <p:cNvPicPr/>
          <p:nvPr/>
        </p:nvPicPr>
        <p:blipFill>
          <a:blip r:embed="rId1"/>
          <a:stretch/>
        </p:blipFill>
        <p:spPr>
          <a:xfrm>
            <a:off x="0" y="457200"/>
            <a:ext cx="917244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3414008_7_2"/>
          <p:cNvPicPr/>
          <p:nvPr/>
        </p:nvPicPr>
        <p:blipFill>
          <a:blip r:embed="rId1"/>
          <a:stretch/>
        </p:blipFill>
        <p:spPr>
          <a:xfrm>
            <a:off x="533520" y="304920"/>
            <a:ext cx="775008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3414028_7_2"/>
          <p:cNvPicPr/>
          <p:nvPr/>
        </p:nvPicPr>
        <p:blipFill>
          <a:blip r:embed="rId1"/>
          <a:stretch/>
        </p:blipFill>
        <p:spPr>
          <a:xfrm>
            <a:off x="380880" y="685800"/>
            <a:ext cx="838224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9" descr="P113-CHART"/>
          <p:cNvPicPr/>
          <p:nvPr/>
        </p:nvPicPr>
        <p:blipFill>
          <a:blip r:embed="rId1"/>
          <a:stretch/>
        </p:blipFill>
        <p:spPr>
          <a:xfrm>
            <a:off x="533520" y="0"/>
            <a:ext cx="824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0" descr="P129-CHART"/>
          <p:cNvPicPr/>
          <p:nvPr/>
        </p:nvPicPr>
        <p:blipFill>
          <a:blip r:embed="rId1"/>
          <a:stretch/>
        </p:blipFill>
        <p:spPr>
          <a:xfrm>
            <a:off x="1752480" y="0"/>
            <a:ext cx="6553440" cy="676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oil movement"/>
          <p:cNvPicPr/>
          <p:nvPr/>
        </p:nvPicPr>
        <p:blipFill>
          <a:blip r:embed="rId1"/>
          <a:srcRect l="0" t="5900" r="0" b="0"/>
          <a:stretch/>
        </p:blipFill>
        <p:spPr>
          <a:xfrm>
            <a:off x="0" y="47520"/>
            <a:ext cx="9144000" cy="53467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1447920" y="563868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ap shows the movement of oil around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6" descr="http://cdn.wn.com/pd/cb/9c/dda685f509cb4b688d5a44a66428_grande.jpg"/>
          <p:cNvPicPr/>
          <p:nvPr/>
        </p:nvPicPr>
        <p:blipFill>
          <a:blip r:embed="rId1"/>
          <a:stretch/>
        </p:blipFill>
        <p:spPr>
          <a:xfrm>
            <a:off x="304920" y="3124080"/>
            <a:ext cx="4906800" cy="3124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http://jalopnik.com/assets/resources/2008/03/Burka.jpg"/>
          <p:cNvPicPr/>
          <p:nvPr/>
        </p:nvPicPr>
        <p:blipFill>
          <a:blip r:embed="rId2"/>
          <a:stretch/>
        </p:blipFill>
        <p:spPr>
          <a:xfrm>
            <a:off x="6324480" y="3276720"/>
            <a:ext cx="2057400" cy="2992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http://www.ijtihad.org/hijab3.jpg"/>
          <p:cNvPicPr/>
          <p:nvPr/>
        </p:nvPicPr>
        <p:blipFill>
          <a:blip r:embed="rId3"/>
          <a:srcRect l="0" t="0" r="0" b="37779"/>
          <a:stretch/>
        </p:blipFill>
        <p:spPr>
          <a:xfrm>
            <a:off x="3657600" y="228600"/>
            <a:ext cx="3029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143160" y="3344760"/>
          <a:ext cx="2857680" cy="168480"/>
        </p:xfrm>
        <a:graphic>
          <a:graphicData uri="http://schemas.openxmlformats.org/drawingml/2006/table">
            <a:tbl>
              <a:tblPr/>
              <a:tblGrid>
                <a:gridCol w="2857680"/>
              </a:tblGrid>
              <a:tr h="168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Rectangle 4"/>
          <p:cNvSpPr/>
          <p:nvPr/>
        </p:nvSpPr>
        <p:spPr>
          <a:xfrm>
            <a:off x="304920" y="45360"/>
            <a:ext cx="91440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"/>
                <a:ea typeface="Calibri"/>
              </a:rPr>
              <a:t>The Declaration of Independence 17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Unanimous Declaration of the Thirteen United States of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2491200"/>
            <a:ext cx="914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We hold these _________ to be ______________, that all men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ed ____________, that they are endowed by the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______________ with certain unalienable ___________, that am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se are ________, ___________ and the pursuit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_____________.  That to secure these rights, 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re instituted among men, deriving their just powers from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____________ of the govern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il_fi" descr="http://2.bp.blogspot.com/-YZMvN7u7eps/ThH9xuvg94I/AAAAAAAAGYk/9snIp0NDoE8/s400/The+Founding+Fathers+are+depicted+in+the+painting+Declaration+of+Independence.jpeg"/>
          <p:cNvPicPr/>
          <p:nvPr/>
        </p:nvPicPr>
        <p:blipFill>
          <a:blip r:embed="rId1"/>
          <a:stretch/>
        </p:blipFill>
        <p:spPr>
          <a:xfrm>
            <a:off x="3429000" y="685800"/>
            <a:ext cx="2247840" cy="1685880"/>
          </a:xfrm>
          <a:prstGeom prst="rect">
            <a:avLst/>
          </a:prstGeom>
          <a:ln w="0">
            <a:noFill/>
          </a:ln>
        </p:spPr>
      </p:pic>
      <p:sp>
        <p:nvSpPr>
          <p:cNvPr id="95" name="TextBox 10"/>
          <p:cNvSpPr/>
          <p:nvPr/>
        </p:nvSpPr>
        <p:spPr>
          <a:xfrm>
            <a:off x="1981080" y="2514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u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4267080" y="2438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lf-ev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1295280" y="3048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q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3"/>
          <p:cNvSpPr/>
          <p:nvPr/>
        </p:nvSpPr>
        <p:spPr>
          <a:xfrm>
            <a:off x="457200" y="3657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re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4"/>
          <p:cNvSpPr/>
          <p:nvPr/>
        </p:nvSpPr>
        <p:spPr>
          <a:xfrm>
            <a:off x="5791320" y="3581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5"/>
          <p:cNvSpPr/>
          <p:nvPr/>
        </p:nvSpPr>
        <p:spPr>
          <a:xfrm>
            <a:off x="152388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304812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b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228600" y="4800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app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6400800" y="4800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228600" y="6019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228600" y="304920"/>
          <a:ext cx="8763120" cy="5271840"/>
        </p:xfrm>
        <a:graphic>
          <a:graphicData uri="http://schemas.openxmlformats.org/drawingml/2006/table">
            <a:tbl>
              <a:tblPr/>
              <a:tblGrid>
                <a:gridCol w="1884240"/>
                <a:gridCol w="2038320"/>
                <a:gridCol w="3057840"/>
                <a:gridCol w="1782720"/>
              </a:tblGrid>
              <a:tr h="83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ddle Eastern 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apital 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Relig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teracy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fghanis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ahr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gy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ra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sra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ord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uwa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28600" y="380880"/>
          <a:ext cx="8610480" cy="5867640"/>
        </p:xfrm>
        <a:graphic>
          <a:graphicData uri="http://schemas.openxmlformats.org/drawingml/2006/table">
            <a:tbl>
              <a:tblPr/>
              <a:tblGrid>
                <a:gridCol w="1876320"/>
                <a:gridCol w="2225880"/>
                <a:gridCol w="2719440"/>
                <a:gridCol w="1788840"/>
              </a:tblGrid>
              <a:tr h="119700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ddle Eastern 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apital 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Relig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teracy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ba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by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akis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Qa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udi Arab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y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ur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.A.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.S.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1" descr="Image:UAE locator map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352520"/>
            <a:ext cx="7619760" cy="41529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2"/>
          <p:cNvSpPr/>
          <p:nvPr/>
        </p:nvSpPr>
        <p:spPr>
          <a:xfrm>
            <a:off x="5508720" y="2384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b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3048120" y="42670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United Arab Emi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Palm Island Dubai"/>
          <p:cNvPicPr/>
          <p:nvPr/>
        </p:nvPicPr>
        <p:blipFill>
          <a:blip r:embed="rId1"/>
          <a:stretch/>
        </p:blipFill>
        <p:spPr>
          <a:xfrm>
            <a:off x="4476600" y="0"/>
            <a:ext cx="4667400" cy="23241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4572000" y="2514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Dubai Palm has been called the eighth wonder of the wor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dubai"/>
          <p:cNvPicPr/>
          <p:nvPr/>
        </p:nvPicPr>
        <p:blipFill>
          <a:blip r:embed="rId2"/>
          <a:stretch/>
        </p:blipFill>
        <p:spPr>
          <a:xfrm>
            <a:off x="0" y="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dubai2"/>
          <p:cNvPicPr/>
          <p:nvPr/>
        </p:nvPicPr>
        <p:blipFill>
          <a:blip r:embed="rId3"/>
          <a:stretch/>
        </p:blipFill>
        <p:spPr>
          <a:xfrm>
            <a:off x="0" y="3581280"/>
            <a:ext cx="3962520" cy="327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jbr2"/>
          <p:cNvPicPr/>
          <p:nvPr/>
        </p:nvPicPr>
        <p:blipFill>
          <a:blip r:embed="rId4"/>
          <a:stretch/>
        </p:blipFill>
        <p:spPr>
          <a:xfrm>
            <a:off x="3962520" y="3581280"/>
            <a:ext cx="5181480" cy="3276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ttp://www.condohotelsdubai.com/images/dubai-palm-island4.jpg"/>
          <p:cNvPicPr/>
          <p:nvPr/>
        </p:nvPicPr>
        <p:blipFill>
          <a:blip r:embed="rId5"/>
          <a:stretch/>
        </p:blipFill>
        <p:spPr>
          <a:xfrm>
            <a:off x="4381560" y="0"/>
            <a:ext cx="47624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www.condohotelsdubai.com/images/dubai-1990.jpg"/>
          <p:cNvPicPr/>
          <p:nvPr/>
        </p:nvPicPr>
        <p:blipFill>
          <a:blip r:embed="rId1"/>
          <a:stretch/>
        </p:blipFill>
        <p:spPr>
          <a:xfrm>
            <a:off x="1143000" y="533520"/>
            <a:ext cx="7337520" cy="487656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2590920" y="55627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1990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Dubai_night_skyline"/>
          <p:cNvPicPr/>
          <p:nvPr/>
        </p:nvPicPr>
        <p:blipFill>
          <a:blip r:embed="rId1"/>
          <a:stretch/>
        </p:blipFill>
        <p:spPr>
          <a:xfrm>
            <a:off x="0" y="1676520"/>
            <a:ext cx="5343480" cy="3562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File:Burj Khalifa building.jpg"/>
          <p:cNvPicPr/>
          <p:nvPr/>
        </p:nvPicPr>
        <p:blipFill>
          <a:blip r:embed="rId2"/>
          <a:stretch/>
        </p:blipFill>
        <p:spPr>
          <a:xfrm>
            <a:off x="4957920" y="571680"/>
            <a:ext cx="4186080" cy="628632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1371600" y="6095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rj Khalifa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2,723 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http://www.ideapharmer.com/wp-content/uploads/2010/01/Tallest-Buildings-in-the-World.jpg"/>
          <p:cNvPicPr/>
          <p:nvPr/>
        </p:nvPicPr>
        <p:blipFill>
          <a:blip r:embed="rId3"/>
          <a:stretch/>
        </p:blipFill>
        <p:spPr>
          <a:xfrm>
            <a:off x="533520" y="-15840"/>
            <a:ext cx="77724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3413996_7_5"/>
          <p:cNvPicPr/>
          <p:nvPr/>
        </p:nvPicPr>
        <p:blipFill>
          <a:blip r:embed="rId1"/>
          <a:stretch/>
        </p:blipFill>
        <p:spPr>
          <a:xfrm>
            <a:off x="2895480" y="0"/>
            <a:ext cx="3602160" cy="6730920"/>
          </a:xfrm>
          <a:prstGeom prst="rect">
            <a:avLst/>
          </a:prstGeom>
          <a:ln w="0">
            <a:noFill/>
          </a:ln>
        </p:spPr>
      </p:pic>
      <p:sp>
        <p:nvSpPr>
          <p:cNvPr id="79" name="Line 5"/>
          <p:cNvSpPr/>
          <p:nvPr/>
        </p:nvSpPr>
        <p:spPr>
          <a:xfrm flipH="1">
            <a:off x="4952880" y="1371600"/>
            <a:ext cx="1828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3414100_7_3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8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21:17:26Z</dcterms:created>
  <dc:creator>sramsey</dc:creator>
  <dc:description/>
  <dc:language>en-US</dc:language>
  <cp:lastModifiedBy>poweruser</cp:lastModifiedBy>
  <dcterms:modified xsi:type="dcterms:W3CDTF">2011-11-09T21:58:35Z</dcterms:modified>
  <cp:revision>31</cp:revision>
  <dc:subject/>
  <dc:title>Slide 1</dc:title>
</cp:coreProperties>
</file>